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50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30.png" ContentType="image/png"/>
  <Override PartName="/ppt/media/image60.jpeg" ContentType="image/jpeg"/>
  <Override PartName="/ppt/media/image24.png" ContentType="image/png"/>
  <Override PartName="/ppt/media/image2.jpeg" ContentType="image/jpeg"/>
  <Override PartName="/ppt/media/image31.png" ContentType="image/png"/>
  <Override PartName="/ppt/media/image29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media/image22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9.png" ContentType="image/png"/>
  <Override PartName="/ppt/media/image35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19.jpeg" ContentType="image/jpeg"/>
  <Override PartName="/ppt/media/image11.png" ContentType="image/png"/>
  <Override PartName="/ppt/media/image32.jpeg" ContentType="image/jpeg"/>
  <Override PartName="/ppt/media/image33.jpeg" ContentType="image/jpeg"/>
  <Override PartName="/ppt/media/image34.png" ContentType="image/png"/>
  <Override PartName="/ppt/media/image38.jpeg" ContentType="image/jpeg"/>
  <Override PartName="/ppt/media/image3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media/image53.wmf" ContentType="image/x-wmf"/>
  <Override PartName="/ppt/media/image54.png" ContentType="image/png"/>
  <Override PartName="/ppt/media/image40.jpeg" ContentType="image/jpeg"/>
  <Override PartName="/ppt/media/image56.png" ContentType="image/png"/>
  <Override PartName="/ppt/media/image5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999560" y="0"/>
            <a:ext cx="1144440" cy="34243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99560" y="4568760"/>
            <a:ext cx="1144440" cy="22892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999560" y="3424320"/>
            <a:ext cx="1144440" cy="11444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14444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71032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57848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43368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28924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61" name="Picture 17" descr="AAC_couleur_eng"/>
          <p:cNvPicPr/>
          <p:nvPr/>
        </p:nvPicPr>
        <p:blipFill>
          <a:blip r:embed="rId2"/>
          <a:stretch/>
        </p:blipFill>
        <p:spPr>
          <a:xfrm>
            <a:off x="322200" y="6151680"/>
            <a:ext cx="3460680" cy="27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a"/>
          <p:cNvPicPr/>
          <p:nvPr/>
        </p:nvPicPr>
        <p:blipFill>
          <a:blip r:embed="rId3"/>
          <a:stretch/>
        </p:blipFill>
        <p:spPr>
          <a:xfrm>
            <a:off x="5376960" y="5996160"/>
            <a:ext cx="2452680" cy="58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2.pn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274680" y="5902200"/>
            <a:ext cx="3672000" cy="760680"/>
            <a:chOff x="274680" y="5902200"/>
            <a:chExt cx="3672000" cy="760680"/>
          </a:xfrm>
        </p:grpSpPr>
        <p:pic>
          <p:nvPicPr>
            <p:cNvPr id="102" name="Picture 13" descr="https://encrypted-tbn2.gstatic.com/images?q=tbn:ANd9GcSUkHTlHNUTLADC-4E2yuHXUsAM_uQDjBaBXamMU-gTpmQ_ahXz"/>
            <p:cNvPicPr/>
            <p:nvPr/>
          </p:nvPicPr>
          <p:blipFill>
            <a:blip r:embed="rId2"/>
            <a:stretch/>
          </p:blipFill>
          <p:spPr>
            <a:xfrm>
              <a:off x="274680" y="5902200"/>
              <a:ext cx="83808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2"/>
            <p:cNvSpPr/>
            <p:nvPr/>
          </p:nvSpPr>
          <p:spPr>
            <a:xfrm>
              <a:off x="1128600" y="5980680"/>
              <a:ext cx="281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262626"/>
                  </a:solidFill>
                  <a:latin typeface="Bookman Old Style"/>
                </a:rPr>
                <a:t>University for Development Studies</a:t>
              </a:r>
              <a:endParaRPr b="0" lang="en-US" sz="16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30240" y="1761840"/>
            <a:ext cx="7711920" cy="2775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ervation and </a:t>
            </a:r>
            <a:endParaRPr b="0" lang="en-US" sz="4400" spc="-1" strike="noStrike">
              <a:solidFill>
                <a:srgbClr val="0060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tilization of crop residues by small ruminants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in Northern Ghana</a:t>
            </a:r>
            <a:endParaRPr b="0" lang="en-US" sz="44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240" y="514368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03f"/>
                </a:solidFill>
                <a:latin typeface="Arial"/>
                <a:ea typeface="Arial"/>
              </a:rPr>
              <a:t>Addah, W. and Ayantunde, A. A.</a:t>
            </a:r>
            <a:endParaRPr b="0" lang="en-US" sz="32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4145040" y="5864400"/>
            <a:ext cx="4827600" cy="77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FS 029\Desktop\ILRI-UDS\PICTURES\IMG_20151016_011902.jpg"/>
          <p:cNvPicPr/>
          <p:nvPr/>
        </p:nvPicPr>
        <p:blipFill>
          <a:blip r:embed="rId4"/>
          <a:stretch/>
        </p:blipFill>
        <p:spPr>
          <a:xfrm>
            <a:off x="6972480" y="1390680"/>
            <a:ext cx="2000160" cy="125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tretch/>
        </p:blipFill>
        <p:spPr>
          <a:xfrm>
            <a:off x="4605480" y="138240"/>
            <a:ext cx="2109600" cy="13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FS 029\Desktop\ILRI-UDS\PICTURES\IMG_20151105_092936.jpg"/>
          <p:cNvPicPr/>
          <p:nvPr/>
        </p:nvPicPr>
        <p:blipFill>
          <a:blip r:embed="rId6"/>
          <a:stretch/>
        </p:blipFill>
        <p:spPr>
          <a:xfrm>
            <a:off x="0" y="114480"/>
            <a:ext cx="2217600" cy="13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6775560" y="138240"/>
            <a:ext cx="2197080" cy="13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C:\Users\FS 029\Desktop\ILRI-UDS\Field Report\IMG_20151015_231307.jpg"/>
          <p:cNvPicPr/>
          <p:nvPr/>
        </p:nvPicPr>
        <p:blipFill>
          <a:blip r:embed="rId8"/>
          <a:stretch/>
        </p:blipFill>
        <p:spPr>
          <a:xfrm>
            <a:off x="2239920" y="114480"/>
            <a:ext cx="23274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1880" y="3805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00"/>
                </a:solidFill>
                <a:latin typeface="Arial"/>
              </a:rPr>
              <a:t>4. Ensiling:</a:t>
            </a:r>
            <a:r>
              <a:rPr b="1" lang="en-CA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best practi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1440" y="1238400"/>
            <a:ext cx="589608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Me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t crop residues can be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ervation can be done at times that drying is not possible (rain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utrient losses are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Deme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siling procedure may be labo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ake may lower than dry crop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6610320" y="152280"/>
            <a:ext cx="2533680" cy="319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5862600" y="4111560"/>
            <a:ext cx="3281400" cy="1851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563160" y="334476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ssava peels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761440" y="59468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undnut haulm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4080" y="2437920"/>
            <a:ext cx="8229600" cy="14288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s/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farm demonstrations/trai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3360" y="342720"/>
            <a:ext cx="812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800000"/>
                </a:solidFill>
                <a:latin typeface="Arial"/>
              </a:rPr>
              <a:t>On-farm demonstrations</a:t>
            </a:r>
            <a:br>
              <a:rPr sz="3200"/>
            </a:b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7320" y="1162080"/>
            <a:ext cx="471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g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NR, UE and UW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muniti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3 pe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rop residu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Groundnut haulm, cassava peels and rice str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135 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:\Users\user\Desktop\Untitled-1.jpg"/>
          <p:cNvPicPr/>
          <p:nvPr/>
        </p:nvPicPr>
        <p:blipFill>
          <a:blip r:embed="rId1"/>
          <a:stretch/>
        </p:blipFill>
        <p:spPr>
          <a:xfrm>
            <a:off x="4923000" y="1200240"/>
            <a:ext cx="4221000" cy="47242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7" name="Rectangle 2"/>
          <p:cNvSpPr/>
          <p:nvPr/>
        </p:nvSpPr>
        <p:spPr>
          <a:xfrm>
            <a:off x="252720" y="5245200"/>
            <a:ext cx="390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03f"/>
                </a:solidFill>
                <a:latin typeface="Arial"/>
                <a:ea typeface="Arial"/>
              </a:rPr>
              <a:t>NR: Tibali, Tingoli, Botingli</a:t>
            </a: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47760" y="5686560"/>
            <a:ext cx="4415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03f"/>
                </a:solidFill>
                <a:latin typeface="Arial"/>
                <a:ea typeface="Arial"/>
              </a:rPr>
              <a:t>UE: Nyangua, Gia, Samboligo</a:t>
            </a: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78360" y="6224760"/>
            <a:ext cx="360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03f"/>
                </a:solidFill>
                <a:latin typeface="Arial"/>
                <a:ea typeface="Arial"/>
              </a:rPr>
              <a:t>UW: Zanko, Guo, Passe</a:t>
            </a: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880" y="36180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800000"/>
                </a:solidFill>
                <a:latin typeface="Arial"/>
              </a:rPr>
              <a:t>Ensiling groundnut/cowpea haulm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085760"/>
            <a:ext cx="8229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:\Users\FS 029\Desktop\ILRI-UDS\PICTURES\IMG_20151015_231312.jpg"/>
          <p:cNvPicPr/>
          <p:nvPr/>
        </p:nvPicPr>
        <p:blipFill>
          <a:blip r:embed="rId1"/>
          <a:stretch/>
        </p:blipFill>
        <p:spPr>
          <a:xfrm>
            <a:off x="426960" y="1201680"/>
            <a:ext cx="3724200" cy="209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1836720" y="3814920"/>
            <a:ext cx="944640" cy="84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4702320" y="4962600"/>
            <a:ext cx="1431720" cy="1262160"/>
          </a:xfrm>
          <a:prstGeom prst="rect">
            <a:avLst/>
          </a:prstGeom>
          <a:ln w="0">
            <a:noFill/>
          </a:ln>
        </p:spPr>
      </p:pic>
      <p:sp>
        <p:nvSpPr>
          <p:cNvPr id="185" name="Title 1"/>
          <p:cNvSpPr/>
          <p:nvPr/>
        </p:nvSpPr>
        <p:spPr>
          <a:xfrm>
            <a:off x="426960" y="3419640"/>
            <a:ext cx="3475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00"/>
                </a:solidFill>
                <a:latin typeface="Arial"/>
                <a:ea typeface="Arial"/>
              </a:rPr>
              <a:t>Harvesting &amp; chopping</a:t>
            </a:r>
            <a:endParaRPr b="0" lang="en-US" sz="18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86" name="Group 1"/>
          <p:cNvGrpSpPr/>
          <p:nvPr/>
        </p:nvGrpSpPr>
        <p:grpSpPr>
          <a:xfrm>
            <a:off x="471600" y="4552920"/>
            <a:ext cx="5248080" cy="2208240"/>
            <a:chOff x="471600" y="4552920"/>
            <a:chExt cx="5248080" cy="2208240"/>
          </a:xfrm>
        </p:grpSpPr>
        <p:pic>
          <p:nvPicPr>
            <p:cNvPr id="187" name="Picture 5" descr="C:\Users\FS 029\Desktop\ILRI-UDS\PICTURES\ILRI PICTURES 065.jpg"/>
            <p:cNvPicPr/>
            <p:nvPr/>
          </p:nvPicPr>
          <p:blipFill>
            <a:blip r:embed="rId4"/>
            <a:stretch/>
          </p:blipFill>
          <p:spPr>
            <a:xfrm>
              <a:off x="471600" y="4552920"/>
              <a:ext cx="3700440" cy="20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itle 1"/>
            <p:cNvSpPr/>
            <p:nvPr/>
          </p:nvSpPr>
          <p:spPr>
            <a:xfrm>
              <a:off x="4172040" y="6096240"/>
              <a:ext cx="154764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3300"/>
                  </a:solidFill>
                  <a:latin typeface="Arial"/>
                  <a:ea typeface="Arial"/>
                </a:rPr>
                <a:t>Filling the silo</a:t>
              </a:r>
              <a:endParaRPr b="0" lang="en-US" sz="18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189" name="Group 2"/>
          <p:cNvGrpSpPr/>
          <p:nvPr/>
        </p:nvGrpSpPr>
        <p:grpSpPr>
          <a:xfrm>
            <a:off x="6362640" y="2935440"/>
            <a:ext cx="2324160" cy="3957480"/>
            <a:chOff x="6362640" y="2935440"/>
            <a:chExt cx="2324160" cy="3957480"/>
          </a:xfrm>
        </p:grpSpPr>
        <p:pic>
          <p:nvPicPr>
            <p:cNvPr id="190" name="Picture 6" descr=""/>
            <p:cNvPicPr/>
            <p:nvPr/>
          </p:nvPicPr>
          <p:blipFill>
            <a:blip r:embed="rId5"/>
            <a:stretch/>
          </p:blipFill>
          <p:spPr>
            <a:xfrm>
              <a:off x="6362640" y="3600360"/>
              <a:ext cx="232416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itle 1"/>
            <p:cNvSpPr/>
            <p:nvPr/>
          </p:nvSpPr>
          <p:spPr>
            <a:xfrm>
              <a:off x="7138800" y="2935440"/>
              <a:ext cx="1548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3300"/>
                  </a:solidFill>
                  <a:latin typeface="Arial"/>
                  <a:ea typeface="Arial"/>
                </a:rPr>
                <a:t>Filling the silo</a:t>
              </a:r>
              <a:endParaRPr b="0" lang="en-US" sz="18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1520" y="533160"/>
            <a:ext cx="548172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5% urea treatment of rice straw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3" name="Picture 9" descr="C:\Users\FS 029\Desktop\ILRI-UDS\Field Report\ILRI PICTURES 216.jpg"/>
          <p:cNvPicPr/>
          <p:nvPr/>
        </p:nvPicPr>
        <p:blipFill>
          <a:blip r:embed="rId1"/>
          <a:stretch/>
        </p:blipFill>
        <p:spPr>
          <a:xfrm>
            <a:off x="228600" y="1512720"/>
            <a:ext cx="2705040" cy="1522440"/>
          </a:xfrm>
          <a:prstGeom prst="rect">
            <a:avLst/>
          </a:prstGeom>
          <a:ln w="0">
            <a:noFill/>
          </a:ln>
        </p:spPr>
      </p:pic>
      <p:sp>
        <p:nvSpPr>
          <p:cNvPr id="194" name="Title 1"/>
          <p:cNvSpPr/>
          <p:nvPr/>
        </p:nvSpPr>
        <p:spPr>
          <a:xfrm>
            <a:off x="193680" y="3025800"/>
            <a:ext cx="1882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  <a:ea typeface="Arial"/>
              </a:rPr>
              <a:t>Spraying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2984400" y="3062160"/>
            <a:ext cx="2789280" cy="2105280"/>
            <a:chOff x="2984400" y="3062160"/>
            <a:chExt cx="2789280" cy="2105280"/>
          </a:xfrm>
        </p:grpSpPr>
        <p:pic>
          <p:nvPicPr>
            <p:cNvPr id="196" name="Picture 5" descr="C:\Users\FS 029\Desktop\ILRI-UDS\Field Report\ILRI PICTURES 183.jpg"/>
            <p:cNvPicPr/>
            <p:nvPr/>
          </p:nvPicPr>
          <p:blipFill>
            <a:blip r:embed="rId2"/>
            <a:stretch/>
          </p:blipFill>
          <p:spPr>
            <a:xfrm>
              <a:off x="2984400" y="3062160"/>
              <a:ext cx="2789280" cy="15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itle 1"/>
            <p:cNvSpPr/>
            <p:nvPr/>
          </p:nvSpPr>
          <p:spPr>
            <a:xfrm>
              <a:off x="2984400" y="4631040"/>
              <a:ext cx="17056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Mix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198" name="Group 3"/>
          <p:cNvGrpSpPr/>
          <p:nvPr/>
        </p:nvGrpSpPr>
        <p:grpSpPr>
          <a:xfrm>
            <a:off x="5956200" y="4645080"/>
            <a:ext cx="2697120" cy="2082600"/>
            <a:chOff x="5956200" y="4645080"/>
            <a:chExt cx="2697120" cy="2082600"/>
          </a:xfrm>
        </p:grpSpPr>
        <p:pic>
          <p:nvPicPr>
            <p:cNvPr id="199" name="Picture 7" descr="C:\Users\FS 029\Desktop\ILRI-UDS\Field Report\ILRI PICTURES 187.jpg"/>
            <p:cNvPicPr/>
            <p:nvPr/>
          </p:nvPicPr>
          <p:blipFill>
            <a:blip r:embed="rId3"/>
            <a:stretch/>
          </p:blipFill>
          <p:spPr>
            <a:xfrm>
              <a:off x="5956200" y="4645080"/>
              <a:ext cx="269712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itle 1"/>
            <p:cNvSpPr/>
            <p:nvPr/>
          </p:nvSpPr>
          <p:spPr>
            <a:xfrm>
              <a:off x="6099480" y="6161040"/>
              <a:ext cx="18838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Bagg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476440" y="0"/>
            <a:ext cx="3346560" cy="2227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6334200" y="2227320"/>
            <a:ext cx="2476440" cy="16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Users\FS 029\Desktop\Silage-making\DR ADDAH\Dr. pix\20160401_111832.jpg"/>
          <p:cNvPicPr/>
          <p:nvPr/>
        </p:nvPicPr>
        <p:blipFill>
          <a:blip r:embed="rId3"/>
          <a:stretch/>
        </p:blipFill>
        <p:spPr>
          <a:xfrm>
            <a:off x="12600" y="4656240"/>
            <a:ext cx="2957760" cy="1995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Users\FS 029\Desktop\Silage-making\DR ADDAH\Dr. pix\20160401_100450.jpg"/>
          <p:cNvPicPr/>
          <p:nvPr/>
        </p:nvPicPr>
        <p:blipFill>
          <a:blip r:embed="rId4"/>
          <a:stretch/>
        </p:blipFill>
        <p:spPr>
          <a:xfrm>
            <a:off x="6095880" y="4656240"/>
            <a:ext cx="3048120" cy="1995480"/>
          </a:xfrm>
          <a:prstGeom prst="rect">
            <a:avLst/>
          </a:prstGeom>
          <a:ln w="0">
            <a:noFill/>
          </a:ln>
        </p:spPr>
      </p:pic>
      <p:sp>
        <p:nvSpPr>
          <p:cNvPr id="205" name="Oval 8"/>
          <p:cNvSpPr/>
          <p:nvPr/>
        </p:nvSpPr>
        <p:spPr>
          <a:xfrm>
            <a:off x="2685960" y="2500200"/>
            <a:ext cx="3137040" cy="215604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onservation of 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ssava peels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206" name="Group 21531"/>
          <p:cNvGrpSpPr/>
          <p:nvPr/>
        </p:nvGrpSpPr>
        <p:grpSpPr>
          <a:xfrm>
            <a:off x="444600" y="1650600"/>
            <a:ext cx="1898640" cy="2807280"/>
            <a:chOff x="444600" y="1650600"/>
            <a:chExt cx="1898640" cy="2807280"/>
          </a:xfrm>
        </p:grpSpPr>
        <p:cxnSp>
          <p:nvCxnSpPr>
            <p:cNvPr id="207" name="Straight Arrow Connector 4"/>
            <p:cNvCxnSpPr/>
            <p:nvPr/>
          </p:nvCxnSpPr>
          <p:spPr>
            <a:xfrm rot="5400000">
              <a:off x="205920" y="2320920"/>
              <a:ext cx="2807640" cy="1467360"/>
            </a:xfrm>
            <a:prstGeom prst="curvedConnector5">
              <a:avLst>
                <a:gd name="adj1" fmla="val 9258"/>
                <a:gd name="adj2" fmla="val 49987"/>
                <a:gd name="adj3" fmla="val 9258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208" name="Rectangle 21530"/>
            <p:cNvSpPr/>
            <p:nvPr/>
          </p:nvSpPr>
          <p:spPr>
            <a:xfrm rot="16932000">
              <a:off x="-35640" y="262908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Sun-dry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209" name="Group 21533"/>
          <p:cNvGrpSpPr/>
          <p:nvPr/>
        </p:nvGrpSpPr>
        <p:grpSpPr>
          <a:xfrm>
            <a:off x="5982840" y="475200"/>
            <a:ext cx="2200320" cy="1713600"/>
            <a:chOff x="5982840" y="475200"/>
            <a:chExt cx="2200320" cy="1713600"/>
          </a:xfrm>
        </p:grpSpPr>
        <p:cxnSp>
          <p:nvCxnSpPr>
            <p:cNvPr id="210" name="Straight Arrow Connector 4"/>
            <p:cNvCxnSpPr/>
            <p:nvPr/>
          </p:nvCxnSpPr>
          <p:spPr>
            <a:xfrm flipH="1" rot="16200000">
              <a:off x="5837040" y="989280"/>
              <a:ext cx="1345320" cy="1054080"/>
            </a:xfrm>
            <a:prstGeom prst="curvedConnector4">
              <a:avLst>
                <a:gd name="adj1" fmla="val -5380"/>
                <a:gd name="adj2" fmla="val 37683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211" name="Rectangle 21532"/>
            <p:cNvSpPr/>
            <p:nvPr/>
          </p:nvSpPr>
          <p:spPr>
            <a:xfrm rot="21008400">
              <a:off x="6787080" y="5889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Ensil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212" name="Group 34"/>
          <p:cNvGrpSpPr/>
          <p:nvPr/>
        </p:nvGrpSpPr>
        <p:grpSpPr>
          <a:xfrm>
            <a:off x="7346520" y="3981600"/>
            <a:ext cx="1788480" cy="675000"/>
            <a:chOff x="7346520" y="3981600"/>
            <a:chExt cx="1788480" cy="675000"/>
          </a:xfrm>
        </p:grpSpPr>
        <p:cxnSp>
          <p:nvCxnSpPr>
            <p:cNvPr id="213" name="Straight Arrow Connector 4"/>
            <p:cNvCxnSpPr/>
            <p:nvPr/>
          </p:nvCxnSpPr>
          <p:spPr>
            <a:xfrm flipH="1" rot="16200000">
              <a:off x="7668360" y="4228200"/>
              <a:ext cx="675360" cy="181440"/>
            </a:xfrm>
            <a:prstGeom prst="curvedConnector5">
              <a:avLst>
                <a:gd name="adj1" fmla="val 49973"/>
                <a:gd name="adj2" fmla="val 49900"/>
                <a:gd name="adj3" fmla="val 49973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214" name="Rectangle 33"/>
            <p:cNvSpPr/>
            <p:nvPr/>
          </p:nvSpPr>
          <p:spPr>
            <a:xfrm>
              <a:off x="7346520" y="402228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Sun-dry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4080" y="2437920"/>
            <a:ext cx="8229600" cy="14288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s/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station and On-farm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887724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Nutrient composition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mean ± SD) of  </a:t>
            </a:r>
            <a:r>
              <a:rPr b="1" lang="en-C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dried or ensiled groundnut haulms TM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-s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0200" y="1371600"/>
          <a:ext cx="8191440" cy="3178080"/>
        </p:xfrm>
        <a:graphic>
          <a:graphicData uri="http://schemas.openxmlformats.org/drawingml/2006/table">
            <a:tbl>
              <a:tblPr/>
              <a:tblGrid>
                <a:gridCol w="3672000"/>
                <a:gridCol w="2033640"/>
                <a:gridCol w="2485800"/>
              </a:tblGrid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i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il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y matter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.1 ± 40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7.5 ± 37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protein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.5 ± 35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8.3 ± 18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fat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±0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± 11.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F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5.0 ± 86.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0 ± 11.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F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52.0 ± 113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25 ± 86.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 (MJ/kg DM)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.0 ± 1.9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.1 ± 0.0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4"/>
          <p:cNvSpPr/>
          <p:nvPr/>
        </p:nvSpPr>
        <p:spPr>
          <a:xfrm>
            <a:off x="514440" y="4613400"/>
            <a:ext cx="81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roundnut haulm = 20%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 (MJ/kg DM) = 0.31crude protein + 0.12 crude fat + 0.05 crude fibre + 0.14 nitrogen free extract (Ellis, 1980).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79280" y="909720"/>
          <a:ext cx="8717040" cy="5537160"/>
        </p:xfrm>
        <a:graphic>
          <a:graphicData uri="http://schemas.openxmlformats.org/drawingml/2006/table">
            <a:tbl>
              <a:tblPr/>
              <a:tblGrid>
                <a:gridCol w="3251160"/>
                <a:gridCol w="1387800"/>
                <a:gridCol w="1180800"/>
                <a:gridCol w="1035000"/>
                <a:gridCol w="1862280"/>
              </a:tblGrid>
              <a:tr h="1050120">
                <a:tc grid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able 2:  DMI  and growth performance of sheep fed </a:t>
                      </a:r>
                      <a:r>
                        <a:rPr b="1" lang="en-CA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ied or ensiled groundnut  haulm diets </a:t>
                      </a:r>
                      <a:r>
                        <a:rPr b="1" lang="en-CA" sz="25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n-station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ns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y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g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wt.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4.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9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61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wt.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6.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gain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G (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81.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8.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0.8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intake (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782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64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2.8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6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 efficiency (ADG/DMI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5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3"/>
          <p:cNvSpPr/>
          <p:nvPr/>
        </p:nvSpPr>
        <p:spPr>
          <a:xfrm>
            <a:off x="190800" y="6284880"/>
            <a:ext cx="2940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ADG: average daily gain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527040" y="47520"/>
            <a:ext cx="7561440" cy="817560"/>
            <a:chOff x="527040" y="47520"/>
            <a:chExt cx="7561440" cy="817560"/>
          </a:xfrm>
        </p:grpSpPr>
        <p:pic>
          <p:nvPicPr>
            <p:cNvPr id="224" name="Picture 2" descr="C:\Users\FS 029\Desktop\ILRI-UDS\PICTURES\IMG_20151016_011902.jpg"/>
            <p:cNvPicPr/>
            <p:nvPr/>
          </p:nvPicPr>
          <p:blipFill>
            <a:blip r:embed="rId1"/>
            <a:stretch/>
          </p:blipFill>
          <p:spPr>
            <a:xfrm>
              <a:off x="527040" y="4968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C:\Users\FS 029\Desktop\ILRI-UDS\PICTURES\IMG_20151016_011902.jpg"/>
            <p:cNvPicPr/>
            <p:nvPr/>
          </p:nvPicPr>
          <p:blipFill>
            <a:blip r:embed="rId2"/>
            <a:stretch/>
          </p:blipFill>
          <p:spPr>
            <a:xfrm>
              <a:off x="2411280" y="4752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" descr="C:\Users\FS 029\Desktop\ILRI-UDS\PICTURES\IMG_20151016_011902.jpg"/>
            <p:cNvPicPr/>
            <p:nvPr/>
          </p:nvPicPr>
          <p:blipFill>
            <a:blip r:embed="rId3"/>
            <a:stretch/>
          </p:blipFill>
          <p:spPr>
            <a:xfrm>
              <a:off x="4295880" y="47520"/>
              <a:ext cx="191340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6204240" y="49680"/>
              <a:ext cx="1884240" cy="81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69720"/>
            <a:ext cx="7620120" cy="6019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Fermentation quality of haulm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544500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Arial"/>
              </a:rPr>
              <a:t>Plate 1. Poorly fermented silage vs hay can reduce DM in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50920" y="2147760"/>
            <a:ext cx="4073400" cy="3140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FS 029\Desktop\ILRI-UDS\PICTURES\ILRI PICTURES 057.jpg"/>
          <p:cNvPicPr/>
          <p:nvPr/>
        </p:nvPicPr>
        <p:blipFill>
          <a:blip r:embed="rId2"/>
          <a:stretch/>
        </p:blipFill>
        <p:spPr>
          <a:xfrm>
            <a:off x="4853160" y="2378160"/>
            <a:ext cx="4176720" cy="2679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474320" y="2492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Hay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422880" y="2262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lage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784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1840" y="1136520"/>
            <a:ext cx="5048280" cy="578160"/>
          </a:xfrm>
          <a:prstGeom prst="rect">
            <a:avLst/>
          </a:prstGeom>
          <a:noFill/>
          <a:ln w="34920">
            <a:solidFill>
              <a:srgbClr val="9c9cdf">
                <a:alpha val="59000"/>
              </a:srgbClr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line of this pres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38480" y="2160360"/>
            <a:ext cx="468648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to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s/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lea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for out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0" y="-14436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742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887724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: Nutrient composition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mean ± SD) of  </a:t>
            </a:r>
            <a:r>
              <a:rPr b="1" lang="en-C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dried or ensiled cassava peels TM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-farm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85840" y="1790640"/>
          <a:ext cx="8191440" cy="2944800"/>
        </p:xfrm>
        <a:graphic>
          <a:graphicData uri="http://schemas.openxmlformats.org/drawingml/2006/table">
            <a:tbl>
              <a:tblPr/>
              <a:tblGrid>
                <a:gridCol w="3671640"/>
                <a:gridCol w="1825920"/>
                <a:gridCol w="2693880"/>
              </a:tblGrid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ed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iled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y matter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.4±0.8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.0±0.61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protein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0.3</a:t>
                      </a: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±</a:t>
                      </a: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.6</a:t>
                      </a: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±</a:t>
                      </a: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fat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 ±0.48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4 ±0.5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free extract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64.6±0.94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55.9±0.96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 (MJ/kg DM)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.7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4"/>
          <p:cNvSpPr/>
          <p:nvPr/>
        </p:nvSpPr>
        <p:spPr>
          <a:xfrm>
            <a:off x="361800" y="4835520"/>
            <a:ext cx="811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ssava peels = 75%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 (MJ/kg DM; Pauzenga, 1985).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79280" y="1725480"/>
          <a:ext cx="8755200" cy="4023000"/>
        </p:xfrm>
        <a:graphic>
          <a:graphicData uri="http://schemas.openxmlformats.org/drawingml/2006/table">
            <a:tbl>
              <a:tblPr/>
              <a:tblGrid>
                <a:gridCol w="2792520"/>
                <a:gridCol w="1009800"/>
                <a:gridCol w="1306440"/>
                <a:gridCol w="1360440"/>
                <a:gridCol w="971640"/>
                <a:gridCol w="1314360"/>
              </a:tblGrid>
              <a:tr h="823320">
                <a:tc grid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able 4: DMI growth performance of sheep fed dried or ensiled </a:t>
                      </a:r>
                      <a:r>
                        <a:rPr b="1" lang="en-C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ssava peel diets </a:t>
                      </a:r>
                      <a:r>
                        <a:rPr b="1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n-station 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il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wt.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1.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wt.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r>
                        <a:rPr b="0" lang="en-CA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8.7</a:t>
                      </a:r>
                      <a:r>
                        <a:rPr b="0" lang="en-CA" sz="2400" spc="-1" strike="noStrike" baseline="30000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6.0</a:t>
                      </a:r>
                      <a:r>
                        <a:rPr b="0" lang="en-CA" sz="2400" spc="-1" strike="noStrike" baseline="30000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gain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r>
                        <a:rPr b="0" lang="en-CA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6.9</a:t>
                      </a:r>
                      <a:r>
                        <a:rPr b="0" lang="en-CA" sz="2400" spc="-1" strike="noStrike" baseline="30000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r>
                        <a:rPr b="0" lang="en-CA" sz="2400" spc="-1" strike="noStrike" baseline="30000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intake (k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G (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r>
                        <a:rPr b="0" lang="en-CA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0.10</a:t>
                      </a:r>
                      <a:r>
                        <a:rPr b="0" lang="en-CA" sz="2400" spc="-1" strike="noStrike" baseline="30000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0.06</a:t>
                      </a:r>
                      <a:r>
                        <a:rPr b="0" lang="en-CA" sz="2400" spc="-1" strike="noStrike" baseline="30000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3"/>
          <p:cNvSpPr/>
          <p:nvPr/>
        </p:nvSpPr>
        <p:spPr>
          <a:xfrm>
            <a:off x="184680" y="5970600"/>
            <a:ext cx="2940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ADG: average daily gain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736560" y="142920"/>
            <a:ext cx="7561440" cy="817560"/>
            <a:chOff x="736560" y="142920"/>
            <a:chExt cx="7561440" cy="817560"/>
          </a:xfrm>
        </p:grpSpPr>
        <p:pic>
          <p:nvPicPr>
            <p:cNvPr id="241" name="Picture 2" descr="C:\Users\FS 029\Desktop\ILRI-UDS\PICTURES\IMG_20151016_011902.jpg"/>
            <p:cNvPicPr/>
            <p:nvPr/>
          </p:nvPicPr>
          <p:blipFill>
            <a:blip r:embed="rId1"/>
            <a:stretch/>
          </p:blipFill>
          <p:spPr>
            <a:xfrm>
              <a:off x="736560" y="14508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" descr="C:\Users\FS 029\Desktop\ILRI-UDS\PICTURES\IMG_20151016_011902.jpg"/>
            <p:cNvPicPr/>
            <p:nvPr/>
          </p:nvPicPr>
          <p:blipFill>
            <a:blip r:embed="rId2"/>
            <a:stretch/>
          </p:blipFill>
          <p:spPr>
            <a:xfrm>
              <a:off x="2620800" y="14292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" descr="C:\Users\FS 029\Desktop\ILRI-UDS\PICTURES\IMG_20151016_011902.jpg"/>
            <p:cNvPicPr/>
            <p:nvPr/>
          </p:nvPicPr>
          <p:blipFill>
            <a:blip r:embed="rId3"/>
            <a:stretch/>
          </p:blipFill>
          <p:spPr>
            <a:xfrm>
              <a:off x="4505400" y="142920"/>
              <a:ext cx="191340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6413760" y="145080"/>
              <a:ext cx="1884240" cy="81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70000" y="1689120"/>
            <a:ext cx="851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s lower intake of silage due to poorer fer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ll addition of soluble sugars enhance fermentation of legume crop resid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controlled drying more preferable to ensi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 of urea treatment on growth was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trient cyc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additional on-station necessary before out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54080" y="14292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54080" y="128520"/>
            <a:ext cx="8742240" cy="981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89080" y="1539360"/>
            <a:ext cx="4147920" cy="27291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00"/>
                </a:solidFill>
                <a:latin typeface="Arial"/>
              </a:rPr>
              <a:t>What opportunities exist for outscaling and further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Users\FS 029\Desktop\ILRI-UDS\Field Report\ILRI PICTURES 053_chopped groundnut haulms being wilted prior to ensiling.jpg"/>
          <p:cNvPicPr/>
          <p:nvPr/>
        </p:nvPicPr>
        <p:blipFill>
          <a:blip r:embed="rId2"/>
          <a:stretch/>
        </p:blipFill>
        <p:spPr>
          <a:xfrm>
            <a:off x="3441600" y="3184560"/>
            <a:ext cx="51516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0320" y="1314000"/>
            <a:ext cx="641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urther improvements in collection and preservation methods that reduce leaf losses (controlled drying and ensi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lection, preservation, storage, utilization and sale of surplus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6714000" y="63165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9933"/>
                </a:solidFill>
                <a:latin typeface="Arial"/>
                <a:ea typeface="Arial"/>
              </a:rPr>
              <a:t>Microbial analyses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8" name="Picture 3" descr="C:\Users\FS 029\Desktop\ILRI-UDS\PICTURES\ILRI PICTURES 023.jpg"/>
          <p:cNvPicPr/>
          <p:nvPr/>
        </p:nvPicPr>
        <p:blipFill>
          <a:blip r:embed="rId4"/>
          <a:stretch/>
        </p:blipFill>
        <p:spPr>
          <a:xfrm>
            <a:off x="6454800" y="1343160"/>
            <a:ext cx="2482920" cy="161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5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:\Users\FS 029\Desktop\ILRI-UDS\Field Report\ILRI PICTURES 021_Carting of groundnut haulms.jpg"/>
          <p:cNvPicPr/>
          <p:nvPr/>
        </p:nvPicPr>
        <p:blipFill>
          <a:blip r:embed="rId6"/>
          <a:stretch/>
        </p:blipFill>
        <p:spPr>
          <a:xfrm>
            <a:off x="6438960" y="3946680"/>
            <a:ext cx="24987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3240" y="514440"/>
            <a:ext cx="442908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600"/>
                </a:solidFill>
                <a:latin typeface="Arial"/>
              </a:rPr>
              <a:t>Discussions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2476440" y="546120"/>
          <a:ext cx="367668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546120"/>
                    <a:ext cx="367668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Picture 3" descr=""/>
          <p:cNvPicPr/>
          <p:nvPr/>
        </p:nvPicPr>
        <p:blipFill>
          <a:blip r:embed="rId3"/>
          <a:stretch/>
        </p:blipFill>
        <p:spPr>
          <a:xfrm>
            <a:off x="210960" y="5867280"/>
            <a:ext cx="87426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052640"/>
            <a:ext cx="866448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Silage was poorly fermented largely because of lower concentration of WSC  for fermentation (Muck, 1998; Addah et al., 201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Hay had a higher retention of leaves and was well dr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Greater feed intake (P = 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Times New Roman"/>
              </a:rPr>
              <a:t>0.069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) and growth performance (P =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Times New Roman"/>
              </a:rPr>
              <a:t> 0.053 or less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) for hay compared silage may be due to the poor fermentation of the haulms compared to the h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Calibri"/>
              </a:rPr>
              <a:t>Additional sugars could be added to haulms to improve fermen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Calibri"/>
              </a:rPr>
              <a:t>Where the weather conditions are favourable, drying is preferable  unless sugar is added before ensi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228600" y="3352680"/>
            <a:ext cx="3039840" cy="4291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2f2b20"/>
                </a:solidFill>
                <a:latin typeface="Arial"/>
              </a:rPr>
              <a:t>Growth performance</a:t>
            </a:r>
            <a:endParaRPr b="0" lang="en-US" sz="22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50920" y="1050840"/>
            <a:ext cx="5135400" cy="4291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2f2b20"/>
                </a:solidFill>
                <a:latin typeface="Arial"/>
              </a:rPr>
              <a:t>Silage fermentation characteristics</a:t>
            </a:r>
            <a:endParaRPr b="0" lang="en-US" sz="22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1000" y="5805360"/>
            <a:ext cx="8340480" cy="64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Fig. 1. Growth pattern of sheep fed hay- or silage die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70" name="Chart 4" descr=""/>
          <p:cNvPicPr/>
          <p:nvPr/>
        </p:nvPicPr>
        <p:blipFill>
          <a:blip r:embed="rId1"/>
          <a:stretch/>
        </p:blipFill>
        <p:spPr>
          <a:xfrm>
            <a:off x="390600" y="1444680"/>
            <a:ext cx="8223120" cy="44384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5"/>
          <p:cNvGrpSpPr/>
          <p:nvPr/>
        </p:nvGrpSpPr>
        <p:grpSpPr>
          <a:xfrm>
            <a:off x="539640" y="453960"/>
            <a:ext cx="7561440" cy="816120"/>
            <a:chOff x="539640" y="453960"/>
            <a:chExt cx="7561440" cy="816120"/>
          </a:xfrm>
        </p:grpSpPr>
        <p:pic>
          <p:nvPicPr>
            <p:cNvPr id="272" name="Picture 2" descr="C:\Users\FS 029\Desktop\ILRI-UDS\PICTURES\IMG_20151016_011902.jpg"/>
            <p:cNvPicPr/>
            <p:nvPr/>
          </p:nvPicPr>
          <p:blipFill>
            <a:blip r:embed="rId2"/>
            <a:stretch/>
          </p:blipFill>
          <p:spPr>
            <a:xfrm>
              <a:off x="539640" y="456120"/>
              <a:ext cx="188424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2" descr="C:\Users\FS 029\Desktop\ILRI-UDS\PICTURES\IMG_20151016_011902.jpg"/>
            <p:cNvPicPr/>
            <p:nvPr/>
          </p:nvPicPr>
          <p:blipFill>
            <a:blip r:embed="rId3"/>
            <a:stretch/>
          </p:blipFill>
          <p:spPr>
            <a:xfrm>
              <a:off x="2423880" y="453960"/>
              <a:ext cx="188424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4308480" y="453960"/>
              <a:ext cx="191340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2" descr="C:\Users\FS 029\Desktop\ILRI-UDS\PICTURES\IMG_20151016_011902.jpg"/>
            <p:cNvPicPr/>
            <p:nvPr/>
          </p:nvPicPr>
          <p:blipFill>
            <a:blip r:embed="rId5"/>
            <a:stretch/>
          </p:blipFill>
          <p:spPr>
            <a:xfrm>
              <a:off x="6216840" y="456120"/>
              <a:ext cx="1884240" cy="81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723960" y="1197000"/>
          <a:ext cx="7296120" cy="5942160"/>
        </p:xfrm>
        <a:graphic>
          <a:graphicData uri="http://schemas.openxmlformats.org/drawingml/2006/table">
            <a:tbl>
              <a:tblPr/>
              <a:tblGrid>
                <a:gridCol w="3270240"/>
                <a:gridCol w="1627200"/>
                <a:gridCol w="2398680"/>
              </a:tblGrid>
              <a:tr h="490320">
                <a:tc gridSpan="3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ble 2. Ingredient and chemical compositions of total mixed rations containing groundnut haulm  conserved as hay or silag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 (g/kg  DM)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y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age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grid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dient compositio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n chaff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ce bra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 cotton seed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iled groundnut haulm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y groundnut haulm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 grid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cal composition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mean ± SD)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y matter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.1 ± 40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7.5 ± 37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protei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5 ± 35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3 ± 18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fat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±0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± 11.6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3 ± 82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.9 ± 76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 free extract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 ± 93.2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  ± 60.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± 5.8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± 14.5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al detergent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.0 ± 86.7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 ± 11.7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detergent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0 ± 113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 ± 86.6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 (MJ/kg DM)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 ± 1.99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 ± 0.0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5120">
                <a:tc gridSpan="3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 crop groundnut haulm was ensiled for 171 d in bag (23 x 34 x 56 m) silos whereas hay was initial field-cured for 6 d and then stored unprotected for addition 130 d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ton seed was treated with 1% (fresh basis) saline solutio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 (MJ/kg DM) = 0.31crude protein + 0.12 crude fat + 0.05 crude fibre + 0.14 nitrogen free extract (Ellis, 1980).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Rectangle 1"/>
          <p:cNvSpPr/>
          <p:nvPr/>
        </p:nvSpPr>
        <p:spPr>
          <a:xfrm>
            <a:off x="2674800" y="1604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5920" y="2971800"/>
            <a:ext cx="8229600" cy="838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ackground to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FS 029\Desktop\ILRI-UDS\PICTURES\ILRI PICTURES 005.jpg"/>
          <p:cNvPicPr/>
          <p:nvPr/>
        </p:nvPicPr>
        <p:blipFill>
          <a:blip r:embed="rId2"/>
          <a:stretch/>
        </p:blipFill>
        <p:spPr>
          <a:xfrm>
            <a:off x="5454720" y="331920"/>
            <a:ext cx="3441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4960" y="473040"/>
            <a:ext cx="845352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800000"/>
                </a:solidFill>
                <a:latin typeface="Arial"/>
              </a:rPr>
              <a:t>Scope of on-farm demonstrations/trainings</a:t>
            </a:r>
            <a:br>
              <a:rPr sz="2800"/>
            </a:b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6360" y="1763280"/>
            <a:ext cx="6377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nefits of ensiling vs. dr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inciples/biochemistry of silage 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75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racteristics of a good si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agement factors that affect the production of a good quality si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rea-treatment (5%) of rice straw to meet microbial requirements of small ruminants f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Users\FS 029\Desktop\ILRI-UDS\PICTURES\ILRI PICTURES 005.jpg"/>
          <p:cNvPicPr/>
          <p:nvPr/>
        </p:nvPicPr>
        <p:blipFill>
          <a:blip r:embed="rId1"/>
          <a:stretch/>
        </p:blipFill>
        <p:spPr>
          <a:xfrm>
            <a:off x="5910120" y="3009960"/>
            <a:ext cx="3081600" cy="17334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"/>
          <p:cNvSpPr/>
          <p:nvPr/>
        </p:nvSpPr>
        <p:spPr>
          <a:xfrm>
            <a:off x="380880" y="114624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inings/demonstrations covered the following areas: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  <a:ea typeface="Calibri"/>
              </a:rPr>
              <a:t>Table 2. Chemical and microbial compositions (mean ± SD) of  groundnut haulm conserved as hay or silage</a:t>
            </a:r>
            <a:br>
              <a:rPr sz="2400"/>
            </a:b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1360" y="1066680"/>
          <a:ext cx="8763120" cy="5707080"/>
        </p:xfrm>
        <a:graphic>
          <a:graphicData uri="http://schemas.openxmlformats.org/drawingml/2006/table">
            <a:tbl>
              <a:tblPr/>
              <a:tblGrid>
                <a:gridCol w="3823560"/>
                <a:gridCol w="173520"/>
                <a:gridCol w="1496880"/>
                <a:gridCol w="1807560"/>
                <a:gridCol w="1461600"/>
              </a:tblGrid>
              <a:tr h="40284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em</a:t>
                      </a: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mean ± SD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ensiled haulm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served haulm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y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siled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0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M (g/kg  DM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0.9 ± 24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37.1 ± 33.60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1.3 ± 0.1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H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 ± 0.6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7 ± 0.09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 ± 0.08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emical composition (g/kg  DM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SC (mg/kg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.4 ± </a:t>
                      </a: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3.6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1 ± 0.9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 ± 1.1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monia-N (g/kg of total N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1 ± 0.2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.6 ± 0.1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.3 ± 0.2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tic acid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D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5 ± 1.3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5 ±  0.2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920"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crobial populations (Log</a:t>
                      </a:r>
                      <a:r>
                        <a:rPr b="1" lang="en-CA" sz="23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CFU/g DM)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tic acid bacteria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6 ± 0.6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8 ± 0.4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6 ± 0.2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ulds 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7 ± 1.9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0 ± 1.3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1 ± 1.0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asts 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9 ± 2.1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5 ± 0.8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2 ± 1.0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 gridSpan="5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D, below limits of quantification</a:t>
                      </a:r>
                      <a:endParaRPr b="0" lang="en-US" sz="23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1880" y="1604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FS 029\Desktop\ILRI-UDS\Field Report\IMG_20151015_231307.jpg"/>
          <p:cNvPicPr/>
          <p:nvPr/>
        </p:nvPicPr>
        <p:blipFill>
          <a:blip r:embed="rId2"/>
          <a:stretch/>
        </p:blipFill>
        <p:spPr>
          <a:xfrm>
            <a:off x="9601200" y="2486160"/>
            <a:ext cx="4381560" cy="2465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FS 029\Desktop\ILRI-UDS\Field Report\IMG_20151015_231312.jpg"/>
          <p:cNvPicPr/>
          <p:nvPr/>
        </p:nvPicPr>
        <p:blipFill>
          <a:blip r:embed="rId3"/>
          <a:stretch/>
        </p:blipFill>
        <p:spPr>
          <a:xfrm>
            <a:off x="1486080" y="4995720"/>
            <a:ext cx="3517560" cy="1978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FS 029\Desktop\ILRI-UDS\Field Report\IMG_20151016_001911.jpg"/>
          <p:cNvPicPr/>
          <p:nvPr/>
        </p:nvPicPr>
        <p:blipFill>
          <a:blip r:embed="rId4"/>
          <a:stretch/>
        </p:blipFill>
        <p:spPr>
          <a:xfrm>
            <a:off x="7327800" y="3257640"/>
            <a:ext cx="2076480" cy="1168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C:\Users\FS 029\Desktop\ILRI-UDS\Field Report\ILRI PICTURES 188.jpg"/>
          <p:cNvPicPr/>
          <p:nvPr/>
        </p:nvPicPr>
        <p:blipFill>
          <a:blip r:embed="rId5"/>
          <a:stretch/>
        </p:blipFill>
        <p:spPr>
          <a:xfrm>
            <a:off x="7680240" y="-393840"/>
            <a:ext cx="3203640" cy="180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C:\Users\FS 029\Desktop\ILRI-UDS\Silage-making\20160613_094939.jpg"/>
          <p:cNvPicPr/>
          <p:nvPr/>
        </p:nvPicPr>
        <p:blipFill>
          <a:blip r:embed="rId6"/>
          <a:stretch/>
        </p:blipFill>
        <p:spPr>
          <a:xfrm>
            <a:off x="6897600" y="4762440"/>
            <a:ext cx="39862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ce of crop residues to small ruminants production in Ghan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990720" y="1676520"/>
            <a:ext cx="0" cy="4267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990720" y="5943600"/>
            <a:ext cx="784836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57600" y="6095880"/>
            <a:ext cx="51814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y seaso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1066680" y="2070000"/>
            <a:ext cx="7620120" cy="3721320"/>
          </a:xfrm>
          <a:custGeom>
            <a:avLst/>
            <a:gdLst>
              <a:gd name="textAreaLeft" fmla="*/ 0 w 7620120"/>
              <a:gd name="textAreaRight" fmla="*/ 7620480 w 762012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040" h="2056">
                <a:moveTo>
                  <a:pt x="0" y="1440"/>
                </a:moveTo>
                <a:cubicBezTo>
                  <a:pt x="336" y="768"/>
                  <a:pt x="672" y="96"/>
                  <a:pt x="1056" y="48"/>
                </a:cubicBezTo>
                <a:cubicBezTo>
                  <a:pt x="1440" y="0"/>
                  <a:pt x="1968" y="1000"/>
                  <a:pt x="2304" y="1152"/>
                </a:cubicBezTo>
                <a:cubicBezTo>
                  <a:pt x="2640" y="1304"/>
                  <a:pt x="2888" y="976"/>
                  <a:pt x="3072" y="960"/>
                </a:cubicBezTo>
                <a:cubicBezTo>
                  <a:pt x="3256" y="944"/>
                  <a:pt x="3136" y="896"/>
                  <a:pt x="3408" y="1056"/>
                </a:cubicBezTo>
                <a:cubicBezTo>
                  <a:pt x="3680" y="1216"/>
                  <a:pt x="4432" y="1784"/>
                  <a:pt x="4704" y="1920"/>
                </a:cubicBezTo>
                <a:cubicBezTo>
                  <a:pt x="4976" y="2056"/>
                  <a:pt x="5008" y="1964"/>
                  <a:pt x="5040" y="1872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1143000" y="2514600"/>
            <a:ext cx="6477120" cy="281952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4752" h="2072">
                <a:moveTo>
                  <a:pt x="0" y="1352"/>
                </a:moveTo>
                <a:cubicBezTo>
                  <a:pt x="228" y="780"/>
                  <a:pt x="456" y="208"/>
                  <a:pt x="960" y="104"/>
                </a:cubicBezTo>
                <a:cubicBezTo>
                  <a:pt x="1464" y="0"/>
                  <a:pt x="2392" y="400"/>
                  <a:pt x="3024" y="728"/>
                </a:cubicBezTo>
                <a:cubicBezTo>
                  <a:pt x="3656" y="1056"/>
                  <a:pt x="4204" y="1564"/>
                  <a:pt x="4752" y="207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191120" y="1187280"/>
            <a:ext cx="464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pasture/crop residues</a:t>
            </a:r>
            <a:endParaRPr b="0" lang="en-US" sz="26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257800" y="2438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ght gai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3124080" y="167652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190760" y="27432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581120" y="425304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served crop residues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90720" y="6095880"/>
            <a:ext cx="266688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n seaso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2" name="Moon 1"/>
          <p:cNvSpPr/>
          <p:nvPr/>
        </p:nvSpPr>
        <p:spPr>
          <a:xfrm rot="5175600">
            <a:off x="2416680" y="1894320"/>
            <a:ext cx="492120" cy="1204920"/>
          </a:xfrm>
          <a:custGeom>
            <a:avLst/>
            <a:gdLst>
              <a:gd name="textAreaLeft" fmla="*/ 243720 w 492120"/>
              <a:gd name="textAreaRight" fmla="*/ 323280 w 492120"/>
              <a:gd name="textAreaTop" fmla="*/ 82440 h 1204920"/>
              <a:gd name="textAreaBottom" fmla="*/ 112248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896" y="2546"/>
                  <a:pt x="14191" y="5080"/>
                  <a:pt x="14191" y="10800"/>
                </a:cubicBezTo>
                <a:cubicBezTo>
                  <a:pt x="14191" y="16520"/>
                  <a:pt x="17896" y="190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3" name="Moon 18"/>
          <p:cNvSpPr/>
          <p:nvPr/>
        </p:nvSpPr>
        <p:spPr>
          <a:xfrm rot="18006000">
            <a:off x="4051080" y="2425320"/>
            <a:ext cx="882720" cy="233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666880" y="243828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3417840" y="3592440"/>
            <a:ext cx="773280" cy="72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14200" y="23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349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D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isture is undesirable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t causes deteri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Ens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isture is a desirable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74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Chemical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oth wet and dry forages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conserved (e.g. N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urea,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0" y="1523880"/>
            <a:ext cx="901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38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  <a:ea typeface="Arial"/>
              </a:rPr>
              <a:t>Common methods of conserving crop residues: a recap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49440" y="95400"/>
            <a:ext cx="7805520" cy="1420560"/>
            <a:chOff x="649440" y="95400"/>
            <a:chExt cx="7805520" cy="1420560"/>
          </a:xfrm>
        </p:grpSpPr>
        <p:pic>
          <p:nvPicPr>
            <p:cNvPr id="139" name="Picture 5" descr="C:\Users\FS 029\Desktop\ILRI-UDS\Field Report\ILRI PICTURES 189.jpg"/>
            <p:cNvPicPr/>
            <p:nvPr/>
          </p:nvPicPr>
          <p:blipFill>
            <a:blip r:embed="rId1"/>
            <a:stretch/>
          </p:blipFill>
          <p:spPr>
            <a:xfrm>
              <a:off x="5977440" y="122040"/>
              <a:ext cx="247752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C:\Users\FS 029\Desktop\ILRI-UDS\Field Report\ILRI PICTURES 205.jpg"/>
            <p:cNvPicPr/>
            <p:nvPr/>
          </p:nvPicPr>
          <p:blipFill>
            <a:blip r:embed="rId2"/>
            <a:stretch/>
          </p:blipFill>
          <p:spPr>
            <a:xfrm>
              <a:off x="649440" y="95400"/>
              <a:ext cx="247752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C:\Users\FS 029\Desktop\ILRI-UDS\Field Report\ILRI PICTURES 212.jpg"/>
            <p:cNvPicPr/>
            <p:nvPr/>
          </p:nvPicPr>
          <p:blipFill>
            <a:blip r:embed="rId3"/>
            <a:stretch/>
          </p:blipFill>
          <p:spPr>
            <a:xfrm>
              <a:off x="3274200" y="102960"/>
              <a:ext cx="2477520" cy="139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560" y="3816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rvation of crop residues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ndnut and cowpea haulm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2640" y="1139400"/>
            <a:ext cx="8901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Drying on the farm field: </a:t>
            </a: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a poor </a:t>
            </a:r>
            <a:r>
              <a:rPr b="1" lang="en-CA" sz="2500" spc="-1" strike="noStrike">
                <a:solidFill>
                  <a:srgbClr val="c00000"/>
                </a:solidFill>
                <a:latin typeface="Arial"/>
              </a:rPr>
              <a:t>farmer pract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FS 029\Desktop\ILRI-UDS\PICTURES\IMG_20151016_011837.jpg"/>
          <p:cNvPicPr/>
          <p:nvPr/>
        </p:nvPicPr>
        <p:blipFill>
          <a:blip r:embed="rId1"/>
          <a:stretch/>
        </p:blipFill>
        <p:spPr>
          <a:xfrm>
            <a:off x="1981080" y="1919160"/>
            <a:ext cx="2484720" cy="177660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6"/>
          <p:cNvCxnSpPr/>
          <p:nvPr/>
        </p:nvCxnSpPr>
        <p:spPr>
          <a:xfrm>
            <a:off x="4608360" y="2547720"/>
            <a:ext cx="783360" cy="6840"/>
          </a:xfrm>
          <a:prstGeom prst="straightConnector1">
            <a:avLst/>
          </a:prstGeom>
          <a:ln cap="sq" w="130320">
            <a:solidFill>
              <a:srgbClr val="003300"/>
            </a:solidFill>
            <a:miter/>
            <a:tailEnd len="med" type="triangle" w="med"/>
          </a:ln>
        </p:spPr>
      </p:cxnSp>
      <p:pic>
        <p:nvPicPr>
          <p:cNvPr id="146" name="Picture 8" descr="C:\Users\FS 029\Desktop\ILRI-UDS\PICTURES\IMG_20151016_011552.jpg"/>
          <p:cNvPicPr/>
          <p:nvPr/>
        </p:nvPicPr>
        <p:blipFill>
          <a:blip r:embed="rId2"/>
          <a:srcRect l="0" t="0" r="0" b="-7518"/>
          <a:stretch/>
        </p:blipFill>
        <p:spPr>
          <a:xfrm>
            <a:off x="243000" y="191628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Users\FS 029\Desktop\ILRI-UDS\PICTURES\IMG_20160311_200845.jpg"/>
          <p:cNvPicPr/>
          <p:nvPr/>
        </p:nvPicPr>
        <p:blipFill>
          <a:blip r:embed="rId3"/>
          <a:stretch/>
        </p:blipFill>
        <p:spPr>
          <a:xfrm>
            <a:off x="5319720" y="4095720"/>
            <a:ext cx="3646440" cy="2184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:\Users\FS 029\Desktop\ILRI-UDS\PICTURES\IMG_20151105_092936.jpg"/>
          <p:cNvPicPr/>
          <p:nvPr/>
        </p:nvPicPr>
        <p:blipFill>
          <a:blip r:embed="rId4"/>
          <a:stretch/>
        </p:blipFill>
        <p:spPr>
          <a:xfrm>
            <a:off x="5477040" y="1838160"/>
            <a:ext cx="2973240" cy="181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5"/>
          <a:stretch/>
        </p:blipFill>
        <p:spPr>
          <a:xfrm>
            <a:off x="243000" y="4095720"/>
            <a:ext cx="4222800" cy="2184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2503440" y="628020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High leaf &amp; leaching losses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6"/>
          <a:stretch/>
        </p:blipFill>
        <p:spPr>
          <a:xfrm>
            <a:off x="6540480" y="3695760"/>
            <a:ext cx="946080" cy="84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7"/>
          <a:stretch/>
        </p:blipFill>
        <p:spPr>
          <a:xfrm>
            <a:off x="4168800" y="4737240"/>
            <a:ext cx="10731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FS 029\Desktop\ILRI-UDS\PICTURES\IMG_20151016_012036.jpg"/>
          <p:cNvPicPr/>
          <p:nvPr/>
        </p:nvPicPr>
        <p:blipFill>
          <a:blip r:embed="rId1"/>
          <a:stretch/>
        </p:blipFill>
        <p:spPr>
          <a:xfrm>
            <a:off x="5589720" y="1104840"/>
            <a:ext cx="3192480" cy="4621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1880" y="1180800"/>
            <a:ext cx="849168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00674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600"/>
                </a:solidFill>
                <a:latin typeface="Arial"/>
              </a:rPr>
              <a:t>Drying on a shed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 g</a:t>
            </a:r>
            <a:r>
              <a:rPr b="1" lang="en-CA" sz="2800" spc="-1" strike="noStrike">
                <a:solidFill>
                  <a:srgbClr val="c00000"/>
                </a:solidFill>
                <a:latin typeface="Arial"/>
              </a:rPr>
              <a:t>ood farme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inimal leaf and leaching lo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twi et al., 2010)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6"/>
          <p:cNvCxnSpPr/>
          <p:nvPr/>
        </p:nvCxnSpPr>
        <p:spPr>
          <a:xfrm>
            <a:off x="3801960" y="3790440"/>
            <a:ext cx="1007280" cy="1080"/>
          </a:xfrm>
          <a:prstGeom prst="straightConnector1">
            <a:avLst/>
          </a:prstGeom>
          <a:ln cap="sq" w="130320">
            <a:solidFill>
              <a:srgbClr val="009900"/>
            </a:solidFill>
            <a:miter/>
            <a:tailEnd len="med" type="triangle" w="med"/>
          </a:ln>
        </p:spPr>
      </p:cxnSp>
      <p:pic>
        <p:nvPicPr>
          <p:cNvPr id="156" name="Picture 3" descr="C:\Users\FS 029\Desktop\ILRI-UDS\Field Report\IMG_20151016_012014.jpg"/>
          <p:cNvPicPr/>
          <p:nvPr/>
        </p:nvPicPr>
        <p:blipFill>
          <a:blip r:embed="rId2"/>
          <a:stretch/>
        </p:blipFill>
        <p:spPr>
          <a:xfrm>
            <a:off x="114480" y="2338560"/>
            <a:ext cx="4813200" cy="2706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1880" y="1238400"/>
            <a:ext cx="849168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00674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00"/>
                </a:solidFill>
                <a:latin typeface="Arial"/>
              </a:rPr>
              <a:t>Controlled drying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better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00000"/>
                </a:solidFill>
                <a:latin typeface="Arial"/>
              </a:rPr>
              <a:t>Excessive drying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: Volatiliza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00000"/>
                </a:solidFill>
                <a:latin typeface="Arial"/>
              </a:rPr>
              <a:t>Inadequate drying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:  Deterioration in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6"/>
          <p:cNvCxnSpPr/>
          <p:nvPr/>
        </p:nvCxnSpPr>
        <p:spPr>
          <a:xfrm>
            <a:off x="3924360" y="3600000"/>
            <a:ext cx="870480" cy="1080"/>
          </a:xfrm>
          <a:prstGeom prst="straightConnector1">
            <a:avLst/>
          </a:prstGeom>
          <a:ln cap="sq" w="130320">
            <a:solidFill>
              <a:srgbClr val="003300"/>
            </a:solidFill>
            <a:miter/>
            <a:tailEnd len="med" type="triangle" w="med"/>
          </a:ln>
        </p:spPr>
      </p:cxnSp>
      <p:pic>
        <p:nvPicPr>
          <p:cNvPr id="160" name="Picture 7" descr="C:\Users\FS 029\Desktop\ILRI-UDS\PICTURES\ILRI PICTURES 056.jpg"/>
          <p:cNvPicPr/>
          <p:nvPr/>
        </p:nvPicPr>
        <p:blipFill>
          <a:blip r:embed="rId1"/>
          <a:stretch/>
        </p:blipFill>
        <p:spPr>
          <a:xfrm>
            <a:off x="4813200" y="2324160"/>
            <a:ext cx="4129200" cy="232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FS 029\Desktop\ILRI-UDS\PICTURES\ILRI PICTURES 023.jpg"/>
          <p:cNvPicPr/>
          <p:nvPr/>
        </p:nvPicPr>
        <p:blipFill>
          <a:blip r:embed="rId2"/>
          <a:stretch/>
        </p:blipFill>
        <p:spPr>
          <a:xfrm>
            <a:off x="95400" y="2266920"/>
            <a:ext cx="3709800" cy="2419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880" y="1141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Conservation of crop residues: </a:t>
            </a:r>
            <a:br>
              <a:rPr sz="2800"/>
            </a:b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Cassava peel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480" y="1204560"/>
            <a:ext cx="60260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ssava is grown everywhere in Ghana except some parts of UE and 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itterness (HCN ) of the peel reduces its palatability and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ing HCN concen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n-drying (86%) vs ensiling (96%) (Tewe, 199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uminal degradability of cassava peels (Asaolu, 198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70%  (drying) vs 73% (ensi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311880" y="1308240"/>
            <a:ext cx="26859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42:17Z</dcterms:created>
  <dc:creator>Erin Cadieu</dc:creator>
  <dc:description/>
  <dc:language>en-US</dc:language>
  <cp:lastModifiedBy>Odhong</cp:lastModifiedBy>
  <cp:lastPrinted>2013-08-12T17:02:15Z</cp:lastPrinted>
  <dcterms:modified xsi:type="dcterms:W3CDTF">2016-12-22T10:50:51Z</dcterms:modified>
  <cp:revision>1003</cp:revision>
  <dc:subject>January 20, 1998</dc:subject>
  <dc:title>New strategies for the prevention of pasture bloat</dc:title>
</cp:coreProperties>
</file>